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B86-2D1A-4E10-B3E7-E10958A2D7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7CF4-EE2C-47B3-AC3E-699AADE13A6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DB5-53C8-4906-B500-12AC2D951CE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91F-BD93-4E83-8D2D-54FF42ADDF5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F67-8FBC-449D-9A0A-72761961A89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lesson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DD07-FEF1-4C5C-AAE0-FF4A7BAB3A1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69DA-0042-488B-9828-B11F9BF46C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’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6A6-9A85-482B-90F3-5AC835A6EF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002-21E2-4BCB-A95B-F19214BD84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05A8-7F6B-45F9-BFC0-3499170CE4B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EF7-5E15-489A-8641-F131C0FD71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E519-690F-4462-933A-E5D05B9143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0462-DD6B-4933-A4B5-C8AD226817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60CC-99A5-4A21-9B30-F552200B90A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241-9F36-4B8A-82D0-03A01705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565-0D95-4BAB-A0E9-7C4566F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937-8CBD-4150-AED5-73510A29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66E-BCE2-4B1A-B19D-0DA2FFAA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D0E-2592-45C9-9A28-5DC2F57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E2-F3AB-43BE-835E-91A573D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B35-A933-446C-A6FE-7DAA660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1C9-0A3C-41BE-BEC9-D7F604A1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145-CE02-470C-AA7F-B4EF6727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42D-3D0B-438C-8D6B-6645009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54F-787D-44FC-8AD1-5499B3D1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A6F-7881-49C9-B3C2-5F458A3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D653-557F-49C6-BD3B-3C14A345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n Helmont’s experiment (164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2T13:32:32Z</dcterms:modified>
  <cp:revision>94</cp:revision>
  <dc:subject/>
  <dc:title>Slide 1</dc:title>
</cp:coreProperties>
</file>